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9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7D26-37A4-4E1C-81C6-F619C980EE2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E626-89CC-4BB3-9E60-B38ADE1D216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270D-9BDD-4594-8DDF-DA3E04E72B1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6D85-1FA3-46B5-AF8C-F4F9843EC04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488A-140D-4162-9550-BCEC17A0067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C7B4-2ABE-403A-AD5E-E594EA5FDAD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C23E-B2F4-4992-BBE5-7228D1EA118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FD7D-C5D5-4ECF-962E-3B4542641C2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5AE0-3110-42B5-8303-4A79C6B35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6DDF-450E-4072-9C10-82D19851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1A84-3F00-453D-BFD2-863E5DE32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37C9-5E39-4DA8-AE49-70E35ED63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4920" y="-1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F514-CB90-4944-ABC4-DA5A5F39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468D-9D93-4F4B-B816-84784ECB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8068-F32C-416D-8300-962F4152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EB7A-F6E0-4EF1-8B9D-9E9A43A1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34920" y="-1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7E57-1A57-4F76-8266-A0C0C5F4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7661-76FD-4BB6-AAFC-EC345904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AF3C-110E-435E-9F74-637D8817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D893-B5C5-49A0-B9B5-9E670653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4" descr="graffio copy"/>
          <p:cNvPicPr/>
          <p:nvPr/>
        </p:nvPicPr>
        <p:blipFill>
          <a:blip r:embed="rId2"/>
          <a:stretch/>
        </p:blipFill>
        <p:spPr>
          <a:xfrm>
            <a:off x="1440" y="2219400"/>
            <a:ext cx="1752840" cy="3047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Group 21"/>
          <p:cNvGrpSpPr/>
          <p:nvPr/>
        </p:nvGrpSpPr>
        <p:grpSpPr>
          <a:xfrm>
            <a:off x="0" y="6321600"/>
            <a:ext cx="9166320" cy="549000"/>
            <a:chOff x="0" y="6321600"/>
            <a:chExt cx="9166320" cy="549000"/>
          </a:xfrm>
        </p:grpSpPr>
        <p:grpSp>
          <p:nvGrpSpPr>
            <p:cNvPr id="6" name="Group 22"/>
            <p:cNvGrpSpPr/>
            <p:nvPr/>
          </p:nvGrpSpPr>
          <p:grpSpPr>
            <a:xfrm>
              <a:off x="5398920" y="6321600"/>
              <a:ext cx="3738600" cy="215640"/>
              <a:chOff x="5398920" y="6321600"/>
              <a:chExt cx="3738600" cy="215640"/>
            </a:xfrm>
          </p:grpSpPr>
          <p:sp>
            <p:nvSpPr>
              <p:cNvPr id="7" name="Rectangle 23"/>
              <p:cNvSpPr/>
              <p:nvPr/>
            </p:nvSpPr>
            <p:spPr>
              <a:xfrm>
                <a:off x="6334200" y="6321600"/>
                <a:ext cx="936360" cy="215640"/>
              </a:xfrm>
              <a:prstGeom prst="rect">
                <a:avLst/>
              </a:prstGeom>
              <a:solidFill>
                <a:srgbClr val="ebb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" name="Rectangle 24"/>
              <p:cNvSpPr/>
              <p:nvPr/>
            </p:nvSpPr>
            <p:spPr>
              <a:xfrm>
                <a:off x="8200800" y="6321600"/>
                <a:ext cx="936720" cy="215640"/>
              </a:xfrm>
              <a:prstGeom prst="rect">
                <a:avLst/>
              </a:prstGeom>
              <a:solidFill>
                <a:srgbClr val="7e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Rectangle 25"/>
              <p:cNvSpPr/>
              <p:nvPr/>
            </p:nvSpPr>
            <p:spPr>
              <a:xfrm>
                <a:off x="7278480" y="6321600"/>
                <a:ext cx="936720" cy="215640"/>
              </a:xfrm>
              <a:prstGeom prst="rect">
                <a:avLst/>
              </a:prstGeom>
              <a:solidFill>
                <a:srgbClr val="0779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Rectangle 26"/>
              <p:cNvSpPr/>
              <p:nvPr/>
            </p:nvSpPr>
            <p:spPr>
              <a:xfrm>
                <a:off x="5398920" y="6321600"/>
                <a:ext cx="936720" cy="215640"/>
              </a:xfrm>
              <a:prstGeom prst="rect">
                <a:avLst/>
              </a:prstGeom>
              <a:solidFill>
                <a:srgbClr val="9ac0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Group 27"/>
            <p:cNvGrpSpPr/>
            <p:nvPr/>
          </p:nvGrpSpPr>
          <p:grpSpPr>
            <a:xfrm>
              <a:off x="0" y="6321600"/>
              <a:ext cx="9166320" cy="549000"/>
              <a:chOff x="0" y="6321600"/>
              <a:chExt cx="9166320" cy="549000"/>
            </a:xfrm>
          </p:grpSpPr>
          <p:sp>
            <p:nvSpPr>
              <p:cNvPr id="12" name="Rectangle 28"/>
              <p:cNvSpPr/>
              <p:nvPr/>
            </p:nvSpPr>
            <p:spPr>
              <a:xfrm>
                <a:off x="0" y="6321600"/>
                <a:ext cx="5364000" cy="549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" name="Rectangle 29"/>
              <p:cNvSpPr/>
              <p:nvPr/>
            </p:nvSpPr>
            <p:spPr>
              <a:xfrm>
                <a:off x="4557600" y="6564240"/>
                <a:ext cx="4608720" cy="306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4" name="Group 30"/>
          <p:cNvGrpSpPr/>
          <p:nvPr/>
        </p:nvGrpSpPr>
        <p:grpSpPr>
          <a:xfrm>
            <a:off x="0" y="777600"/>
            <a:ext cx="9144000" cy="216000"/>
            <a:chOff x="0" y="777600"/>
            <a:chExt cx="9144000" cy="216000"/>
          </a:xfrm>
        </p:grpSpPr>
        <p:sp>
          <p:nvSpPr>
            <p:cNvPr id="15" name="Rectangle 31"/>
            <p:cNvSpPr/>
            <p:nvPr/>
          </p:nvSpPr>
          <p:spPr>
            <a:xfrm flipV="1">
              <a:off x="2376360" y="776880"/>
              <a:ext cx="676764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32"/>
            <p:cNvSpPr/>
            <p:nvPr/>
          </p:nvSpPr>
          <p:spPr>
            <a:xfrm>
              <a:off x="0" y="777960"/>
              <a:ext cx="111600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33"/>
            <p:cNvSpPr/>
            <p:nvPr/>
          </p:nvSpPr>
          <p:spPr>
            <a:xfrm>
              <a:off x="1287360" y="777960"/>
              <a:ext cx="936720" cy="215640"/>
            </a:xfrm>
            <a:prstGeom prst="rect">
              <a:avLst/>
            </a:prstGeom>
            <a:solidFill>
              <a:srgbClr val="ebb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4893840" y="658296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bb304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C1BD-5EFF-41DE-9C33-8B6AFB8C3874}" type="slidenum">
              <a:rPr b="0" lang="it-IT" sz="1400" spc="-1" strike="noStrike">
                <a:solidFill>
                  <a:srgbClr val="ebb30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4" descr="graffio copy"/>
          <p:cNvPicPr/>
          <p:nvPr/>
        </p:nvPicPr>
        <p:blipFill>
          <a:blip r:embed="rId2"/>
          <a:stretch/>
        </p:blipFill>
        <p:spPr>
          <a:xfrm>
            <a:off x="1440" y="2219400"/>
            <a:ext cx="1752840" cy="304776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21"/>
          <p:cNvGrpSpPr/>
          <p:nvPr/>
        </p:nvGrpSpPr>
        <p:grpSpPr>
          <a:xfrm>
            <a:off x="0" y="6321600"/>
            <a:ext cx="9166320" cy="549000"/>
            <a:chOff x="0" y="6321600"/>
            <a:chExt cx="9166320" cy="549000"/>
          </a:xfrm>
        </p:grpSpPr>
        <p:grpSp>
          <p:nvGrpSpPr>
            <p:cNvPr id="57" name="Group 22"/>
            <p:cNvGrpSpPr/>
            <p:nvPr/>
          </p:nvGrpSpPr>
          <p:grpSpPr>
            <a:xfrm>
              <a:off x="5398920" y="6321600"/>
              <a:ext cx="3738600" cy="215640"/>
              <a:chOff x="5398920" y="6321600"/>
              <a:chExt cx="3738600" cy="215640"/>
            </a:xfrm>
          </p:grpSpPr>
          <p:sp>
            <p:nvSpPr>
              <p:cNvPr id="58" name="Rectangle 23"/>
              <p:cNvSpPr/>
              <p:nvPr/>
            </p:nvSpPr>
            <p:spPr>
              <a:xfrm>
                <a:off x="6334200" y="6321600"/>
                <a:ext cx="936360" cy="215640"/>
              </a:xfrm>
              <a:prstGeom prst="rect">
                <a:avLst/>
              </a:prstGeom>
              <a:solidFill>
                <a:srgbClr val="ebb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24"/>
              <p:cNvSpPr/>
              <p:nvPr/>
            </p:nvSpPr>
            <p:spPr>
              <a:xfrm>
                <a:off x="8200800" y="6321600"/>
                <a:ext cx="936720" cy="215640"/>
              </a:xfrm>
              <a:prstGeom prst="rect">
                <a:avLst/>
              </a:prstGeom>
              <a:solidFill>
                <a:srgbClr val="7e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25"/>
              <p:cNvSpPr/>
              <p:nvPr/>
            </p:nvSpPr>
            <p:spPr>
              <a:xfrm>
                <a:off x="7278480" y="6321600"/>
                <a:ext cx="936720" cy="215640"/>
              </a:xfrm>
              <a:prstGeom prst="rect">
                <a:avLst/>
              </a:prstGeom>
              <a:solidFill>
                <a:srgbClr val="0779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26"/>
              <p:cNvSpPr/>
              <p:nvPr/>
            </p:nvSpPr>
            <p:spPr>
              <a:xfrm>
                <a:off x="5398920" y="6321600"/>
                <a:ext cx="936720" cy="215640"/>
              </a:xfrm>
              <a:prstGeom prst="rect">
                <a:avLst/>
              </a:prstGeom>
              <a:solidFill>
                <a:srgbClr val="9ac0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2" name="Group 27"/>
            <p:cNvGrpSpPr/>
            <p:nvPr/>
          </p:nvGrpSpPr>
          <p:grpSpPr>
            <a:xfrm>
              <a:off x="0" y="6321600"/>
              <a:ext cx="9166320" cy="549000"/>
              <a:chOff x="0" y="6321600"/>
              <a:chExt cx="9166320" cy="549000"/>
            </a:xfrm>
          </p:grpSpPr>
          <p:sp>
            <p:nvSpPr>
              <p:cNvPr id="63" name="Rectangle 28"/>
              <p:cNvSpPr/>
              <p:nvPr/>
            </p:nvSpPr>
            <p:spPr>
              <a:xfrm>
                <a:off x="0" y="6321600"/>
                <a:ext cx="5364000" cy="549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" name="Rectangle 29"/>
              <p:cNvSpPr/>
              <p:nvPr/>
            </p:nvSpPr>
            <p:spPr>
              <a:xfrm>
                <a:off x="4557600" y="6564240"/>
                <a:ext cx="4608720" cy="306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65" name="Group 30"/>
          <p:cNvGrpSpPr/>
          <p:nvPr/>
        </p:nvGrpSpPr>
        <p:grpSpPr>
          <a:xfrm>
            <a:off x="0" y="777600"/>
            <a:ext cx="9144000" cy="216000"/>
            <a:chOff x="0" y="777600"/>
            <a:chExt cx="9144000" cy="216000"/>
          </a:xfrm>
        </p:grpSpPr>
        <p:sp>
          <p:nvSpPr>
            <p:cNvPr id="66" name="Rectangle 31"/>
            <p:cNvSpPr/>
            <p:nvPr/>
          </p:nvSpPr>
          <p:spPr>
            <a:xfrm flipV="1">
              <a:off x="2376360" y="776880"/>
              <a:ext cx="676764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Rectangle 32"/>
            <p:cNvSpPr/>
            <p:nvPr/>
          </p:nvSpPr>
          <p:spPr>
            <a:xfrm>
              <a:off x="0" y="777960"/>
              <a:ext cx="111600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Rectangle 33"/>
            <p:cNvSpPr/>
            <p:nvPr/>
          </p:nvSpPr>
          <p:spPr>
            <a:xfrm>
              <a:off x="1287360" y="777960"/>
              <a:ext cx="936720" cy="215640"/>
            </a:xfrm>
            <a:prstGeom prst="rect">
              <a:avLst/>
            </a:prstGeom>
            <a:solidFill>
              <a:srgbClr val="ebb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ttangolo 3"/>
          <p:cNvSpPr/>
          <p:nvPr/>
        </p:nvSpPr>
        <p:spPr>
          <a:xfrm>
            <a:off x="539640" y="2997360"/>
            <a:ext cx="835344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CasellaDiTesto 2"/>
          <p:cNvSpPr/>
          <p:nvPr/>
        </p:nvSpPr>
        <p:spPr>
          <a:xfrm>
            <a:off x="1150920" y="3930480"/>
            <a:ext cx="673416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Grazia Valentino - Franco Gaud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CREA – Consiglio per la ricerca in agricoltura 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l’analisi dell’economia agra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Immagine 1" descr=""/>
          <p:cNvPicPr/>
          <p:nvPr/>
        </p:nvPicPr>
        <p:blipFill>
          <a:blip r:embed="rId1"/>
          <a:stretch/>
        </p:blipFill>
        <p:spPr>
          <a:xfrm>
            <a:off x="3059280" y="1125360"/>
            <a:ext cx="2376360" cy="2017800"/>
          </a:xfrm>
          <a:prstGeom prst="rect">
            <a:avLst/>
          </a:prstGeom>
          <a:ln w="0">
            <a:noFill/>
          </a:ln>
        </p:spPr>
      </p:pic>
      <p:sp>
        <p:nvSpPr>
          <p:cNvPr id="117" name="Rettangolo 5"/>
          <p:cNvSpPr/>
          <p:nvPr/>
        </p:nvSpPr>
        <p:spPr>
          <a:xfrm>
            <a:off x="1403280" y="3324240"/>
            <a:ext cx="5454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I fabbisogni di lavoro nelle aree rur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CasellaDiTesto 2"/>
          <p:cNvSpPr/>
          <p:nvPr/>
        </p:nvSpPr>
        <p:spPr>
          <a:xfrm>
            <a:off x="444600" y="181080"/>
            <a:ext cx="760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lavoro in agricoltura tra statistiche ufficiali e realtà loca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CasellaDiTesto 4"/>
          <p:cNvSpPr/>
          <p:nvPr/>
        </p:nvSpPr>
        <p:spPr>
          <a:xfrm>
            <a:off x="181800" y="38160"/>
            <a:ext cx="61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un nuovo proget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itolo 1"/>
          <p:cNvSpPr/>
          <p:nvPr/>
        </p:nvSpPr>
        <p:spPr>
          <a:xfrm>
            <a:off x="351000" y="1023840"/>
            <a:ext cx="59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040"/>
                </a:solidFill>
                <a:latin typeface="Trebuchet MS"/>
              </a:rPr>
              <a:t>ARGOMENTO  -  cosa </a:t>
            </a:r>
            <a:r>
              <a:rPr b="0" lang="it-IT" sz="1600" spc="-1" strike="noStrike">
                <a:solidFill>
                  <a:srgbClr val="404040"/>
                </a:solidFill>
                <a:latin typeface="Trebuchet MS"/>
              </a:rPr>
              <a:t>approfondisce</a:t>
            </a:r>
            <a:r>
              <a:rPr b="0" lang="it-IT" sz="2800" spc="-1" strike="noStrike">
                <a:solidFill>
                  <a:srgbClr val="404040"/>
                </a:solidFill>
                <a:latin typeface="Trebuchet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Segnaposto contenuto 2"/>
          <p:cNvSpPr/>
          <p:nvPr/>
        </p:nvSpPr>
        <p:spPr>
          <a:xfrm>
            <a:off x="1170000" y="1665360"/>
            <a:ext cx="433872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entury Gothic"/>
              </a:rPr>
              <a:t>Gli elementi,  dichiaratamente o potenzialmente coagenti sul sistema agroalimentare (derivanti dalla politica e dalla normativa vigente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ttangolo arrotondato 5"/>
          <p:cNvSpPr/>
          <p:nvPr/>
        </p:nvSpPr>
        <p:spPr>
          <a:xfrm>
            <a:off x="1239840" y="2935440"/>
            <a:ext cx="2036880" cy="4222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Competitività delle impre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ttangolo arrotondato 6"/>
          <p:cNvSpPr/>
          <p:nvPr/>
        </p:nvSpPr>
        <p:spPr>
          <a:xfrm>
            <a:off x="3664080" y="2917800"/>
            <a:ext cx="1434960" cy="403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Tutela dei lavorator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Freccia circolare in giù 7"/>
          <p:cNvSpPr/>
          <p:nvPr/>
        </p:nvSpPr>
        <p:spPr>
          <a:xfrm rot="10800000">
            <a:off x="1817280" y="3678120"/>
            <a:ext cx="3041640" cy="573120"/>
          </a:xfrm>
          <a:custGeom>
            <a:avLst/>
            <a:gdLst>
              <a:gd name="textAreaLeft" fmla="*/ 706680 w 3041640"/>
              <a:gd name="textAreaRight" fmla="*/ 2263320 w 3041640"/>
              <a:gd name="textAreaTop" fmla="*/ 76680 h 573120"/>
              <a:gd name="textAreaBottom" fmla="*/ 496440 h 573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37" hR="21600" stAng="10800000" swAng="5400000"/>
                <a:lnTo>
                  <a:pt x="11054" y="0"/>
                </a:lnTo>
                <a:arcTo wR="10037" hR="21600" stAng="-5400000" swAng="3656466"/>
                <a:lnTo>
                  <a:pt x="21281" y="16200"/>
                </a:lnTo>
                <a:lnTo>
                  <a:pt x="20583" y="21600"/>
                </a:lnTo>
                <a:lnTo>
                  <a:pt x="19246" y="16200"/>
                </a:lnTo>
                <a:lnTo>
                  <a:pt x="19755" y="16200"/>
                </a:lnTo>
                <a:arcTo wR="10037" hR="21600" stAng="-1743534" swAng="-3575447"/>
                <a:lnTo>
                  <a:pt x="10546" y="28"/>
                </a:lnTo>
                <a:arcTo wR="10037" hR="21600" stAng="-5481019" swAng="-5318981"/>
                <a:close/>
              </a:path>
              <a:path fill="darkenLess" w="21600" h="21600">
                <a:moveTo>
                  <a:pt x="0" y="21600"/>
                </a:moveTo>
                <a:arcTo wR="10037" hR="21600" stAng="10800000" swAng="5400000"/>
                <a:lnTo>
                  <a:pt x="10037" y="0"/>
                </a:lnTo>
                <a:arcTo wR="10037" hR="21600" stAng="-5400000" swAng="81019"/>
                <a:lnTo>
                  <a:pt x="10546" y="28"/>
                </a:lnTo>
                <a:arcTo wR="10037" hR="21600" stAng="-5481019" swAng="-5318981"/>
                <a:close/>
              </a:path>
            </a:pathLst>
          </a:custGeom>
          <a:solidFill>
            <a:srgbClr val="daede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Freccia circolare in su 8"/>
          <p:cNvSpPr/>
          <p:nvPr/>
        </p:nvSpPr>
        <p:spPr>
          <a:xfrm>
            <a:off x="2502000" y="3608280"/>
            <a:ext cx="1854000" cy="181080"/>
          </a:xfrm>
          <a:custGeom>
            <a:avLst/>
            <a:gdLst>
              <a:gd name="textAreaLeft" fmla="*/ 446400 w 1854000"/>
              <a:gd name="textAreaRight" fmla="*/ 1384920 w 1854000"/>
              <a:gd name="textAreaTop" fmla="*/ 24120 h 181080"/>
              <a:gd name="textAreaBottom" fmla="*/ 156960 h 1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405" hR="21600" stAng="10800000" swAng="-5400000"/>
                <a:lnTo>
                  <a:pt x="10933" y="21600"/>
                </a:lnTo>
                <a:arcTo wR="10405" hR="21600" stAng="5400000" swAng="-3708449"/>
                <a:lnTo>
                  <a:pt x="21270" y="5400"/>
                </a:lnTo>
                <a:lnTo>
                  <a:pt x="21073" y="0"/>
                </a:lnTo>
                <a:lnTo>
                  <a:pt x="20216" y="5400"/>
                </a:lnTo>
                <a:lnTo>
                  <a:pt x="20479" y="5400"/>
                </a:lnTo>
                <a:arcTo wR="10405" hR="21600" stAng="1691551" swAng="3666420"/>
                <a:lnTo>
                  <a:pt x="10669" y="21593"/>
                </a:lnTo>
                <a:arcTo wR="10405" hR="21600" stAng="5442028" swAng="5357972"/>
                <a:close/>
              </a:path>
              <a:path fill="darkenLess" w="21600" h="21600">
                <a:moveTo>
                  <a:pt x="0" y="0"/>
                </a:moveTo>
                <a:arcTo wR="10405" hR="21600" stAng="10800000" swAng="-5400000"/>
                <a:lnTo>
                  <a:pt x="10933" y="21600"/>
                </a:lnTo>
                <a:arcTo wR="10405" hR="21600" stAng="5400000" swAng="42028"/>
                <a:lnTo>
                  <a:pt x="10669" y="21593"/>
                </a:lnTo>
                <a:arcTo wR="10405" hR="21600" stAng="5442028" swAng="5357972"/>
                <a:close/>
              </a:path>
            </a:pathLst>
          </a:custGeom>
          <a:solidFill>
            <a:srgbClr val="daede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ttangolo 9"/>
          <p:cNvSpPr/>
          <p:nvPr/>
        </p:nvSpPr>
        <p:spPr>
          <a:xfrm>
            <a:off x="1854360" y="4976640"/>
            <a:ext cx="2970000" cy="66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Definizione delle migliori condizioni per il loro potenziament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Freccia in giù 10"/>
          <p:cNvSpPr/>
          <p:nvPr/>
        </p:nvSpPr>
        <p:spPr>
          <a:xfrm>
            <a:off x="3147840" y="4459320"/>
            <a:ext cx="489240" cy="334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CasellaDiTesto 19"/>
          <p:cNvSpPr/>
          <p:nvPr/>
        </p:nvSpPr>
        <p:spPr>
          <a:xfrm>
            <a:off x="5316480" y="1790640"/>
            <a:ext cx="3287880" cy="32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040"/>
                </a:solidFill>
                <a:latin typeface="Century Gothic"/>
              </a:rPr>
              <a:t>Gli elementi per la valutazione del fabbisogno di lavoro nelle imprese agricole puglies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Freccia in giù 12"/>
          <p:cNvSpPr/>
          <p:nvPr/>
        </p:nvSpPr>
        <p:spPr>
          <a:xfrm>
            <a:off x="6883560" y="2612880"/>
            <a:ext cx="552240" cy="447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ttangolo arrotondato 13"/>
          <p:cNvSpPr/>
          <p:nvPr/>
        </p:nvSpPr>
        <p:spPr>
          <a:xfrm>
            <a:off x="6469200" y="3179880"/>
            <a:ext cx="1450800" cy="428400"/>
          </a:xfrm>
          <a:prstGeom prst="roundRect">
            <a:avLst>
              <a:gd name="adj" fmla="val 16667"/>
            </a:avLst>
          </a:prstGeom>
          <a:solidFill>
            <a:srgbClr val="9c9cdf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Sostenibilit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ttangolo arrotondato 14"/>
          <p:cNvSpPr/>
          <p:nvPr/>
        </p:nvSpPr>
        <p:spPr>
          <a:xfrm>
            <a:off x="5508720" y="4203720"/>
            <a:ext cx="1662120" cy="84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rebuchet MS"/>
              </a:rPr>
              <a:t>Dimensione etica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, a prioritario interesse collettiv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ttangolo arrotondato 15"/>
          <p:cNvSpPr/>
          <p:nvPr/>
        </p:nvSpPr>
        <p:spPr>
          <a:xfrm>
            <a:off x="7381800" y="4203720"/>
            <a:ext cx="1506600" cy="84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rebuchet MS"/>
              </a:rPr>
              <a:t>Dimensione competitiva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, a prioritario interesse privat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81" name="Connettore 2 17"/>
          <p:cNvCxnSpPr/>
          <p:nvPr/>
        </p:nvCxnSpPr>
        <p:spPr>
          <a:xfrm flipH="1">
            <a:off x="6659640" y="3727080"/>
            <a:ext cx="295560" cy="243720"/>
          </a:xfrm>
          <a:prstGeom prst="straightConnector1">
            <a:avLst/>
          </a:prstGeom>
          <a:ln w="38160">
            <a:solidFill>
              <a:srgbClr val="6b6bcf"/>
            </a:solidFill>
            <a:miter/>
            <a:tailEnd len="med" type="triangle" w="med"/>
          </a:ln>
        </p:spPr>
      </p:cxnSp>
      <p:cxnSp>
        <p:nvCxnSpPr>
          <p:cNvPr id="182" name="Connettore 2 18"/>
          <p:cNvCxnSpPr/>
          <p:nvPr/>
        </p:nvCxnSpPr>
        <p:spPr>
          <a:xfrm>
            <a:off x="7534080" y="3727080"/>
            <a:ext cx="386280" cy="243720"/>
          </a:xfrm>
          <a:prstGeom prst="straightConnector1">
            <a:avLst/>
          </a:prstGeom>
          <a:ln w="38160">
            <a:solidFill>
              <a:srgbClr val="6b6bcf"/>
            </a:solidFill>
            <a:miter/>
            <a:tailEnd len="med" type="triangle" w="med"/>
          </a:ln>
        </p:spPr>
      </p:cxnSp>
      <p:sp>
        <p:nvSpPr>
          <p:cNvPr id="183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Ovale 1"/>
          <p:cNvSpPr/>
          <p:nvPr/>
        </p:nvSpPr>
        <p:spPr>
          <a:xfrm>
            <a:off x="5796000" y="1628640"/>
            <a:ext cx="3166920" cy="115272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Favorire ottimale attuazione del PSR in particolare delle Misure a sostegno della competitività delle imprese agrico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Segnaposto contenuto 4" descr=""/>
          <p:cNvPicPr/>
          <p:nvPr/>
        </p:nvPicPr>
        <p:blipFill>
          <a:blip r:embed="rId1"/>
          <a:stretch/>
        </p:blipFill>
        <p:spPr>
          <a:xfrm>
            <a:off x="1011240" y="2889360"/>
            <a:ext cx="6950160" cy="2846160"/>
          </a:xfrm>
          <a:prstGeom prst="rect">
            <a:avLst/>
          </a:prstGeom>
          <a:ln w="0">
            <a:noFill/>
          </a:ln>
        </p:spPr>
      </p:pic>
      <p:sp>
        <p:nvSpPr>
          <p:cNvPr id="186" name="CasellaDiTesto 3"/>
          <p:cNvSpPr/>
          <p:nvPr/>
        </p:nvSpPr>
        <p:spPr>
          <a:xfrm>
            <a:off x="971640" y="1184400"/>
            <a:ext cx="69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progetto risponde ai fabbisogni del PSR Puglia 2014-2020 ed è assolutamente coerente con i suoi obiettiv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E’ inquadrato nella misura 20 del PSR Pugl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CasellaDiTesto 4"/>
          <p:cNvSpPr/>
          <p:nvPr/>
        </p:nvSpPr>
        <p:spPr>
          <a:xfrm>
            <a:off x="181800" y="38160"/>
            <a:ext cx="61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un nuovo proget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CasellaDiTesto 2"/>
          <p:cNvSpPr/>
          <p:nvPr/>
        </p:nvSpPr>
        <p:spPr>
          <a:xfrm>
            <a:off x="0" y="12603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Stima del fabbisogno di lavoro in aree rurali calabres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Limi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91" name="CasellaDiTesto 4"/>
          <p:cNvSpPr/>
          <p:nvPr/>
        </p:nvSpPr>
        <p:spPr>
          <a:xfrm>
            <a:off x="194760" y="38160"/>
            <a:ext cx="46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ntenuto della present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Immagine 7" descr=""/>
          <p:cNvPicPr/>
          <p:nvPr/>
        </p:nvPicPr>
        <p:blipFill>
          <a:blip r:embed="rId2"/>
          <a:stretch/>
        </p:blipFill>
        <p:spPr>
          <a:xfrm>
            <a:off x="684360" y="283356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193" name="Immagine 1" descr=""/>
          <p:cNvPicPr/>
          <p:nvPr/>
        </p:nvPicPr>
        <p:blipFill>
          <a:blip r:embed="rId3"/>
          <a:stretch/>
        </p:blipFill>
        <p:spPr>
          <a:xfrm>
            <a:off x="4500720" y="2395440"/>
            <a:ext cx="4425840" cy="19573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96" name="CasellaDiTesto 4"/>
          <p:cNvSpPr/>
          <p:nvPr/>
        </p:nvSpPr>
        <p:spPr>
          <a:xfrm>
            <a:off x="186480" y="3816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ocalizzazione ar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Immagine 5" descr=""/>
          <p:cNvPicPr/>
          <p:nvPr/>
        </p:nvPicPr>
        <p:blipFill>
          <a:blip r:embed="rId2"/>
          <a:stretch/>
        </p:blipFill>
        <p:spPr>
          <a:xfrm>
            <a:off x="1403280" y="674640"/>
            <a:ext cx="5113440" cy="5253120"/>
          </a:xfrm>
          <a:prstGeom prst="rect">
            <a:avLst/>
          </a:prstGeom>
          <a:ln w="0">
            <a:noFill/>
          </a:ln>
        </p:spPr>
      </p:pic>
      <p:cxnSp>
        <p:nvCxnSpPr>
          <p:cNvPr id="199" name="Connettore 2 10"/>
          <p:cNvCxnSpPr/>
          <p:nvPr/>
        </p:nvCxnSpPr>
        <p:spPr>
          <a:xfrm flipH="1">
            <a:off x="4953960" y="2563920"/>
            <a:ext cx="43236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Connettore 2 14"/>
          <p:cNvCxnSpPr/>
          <p:nvPr/>
        </p:nvCxnSpPr>
        <p:spPr>
          <a:xfrm flipH="1">
            <a:off x="5409720" y="3338640"/>
            <a:ext cx="289440" cy="7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Connettore 2 17"/>
          <p:cNvCxnSpPr>
            <a:stCxn id="202" idx="2"/>
          </p:cNvCxnSpPr>
          <p:nvPr/>
        </p:nvCxnSpPr>
        <p:spPr>
          <a:xfrm>
            <a:off x="4205160" y="3595680"/>
            <a:ext cx="388080" cy="7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Connettore 2 19"/>
          <p:cNvCxnSpPr/>
          <p:nvPr/>
        </p:nvCxnSpPr>
        <p:spPr>
          <a:xfrm>
            <a:off x="4046400" y="3994200"/>
            <a:ext cx="316800" cy="7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CasellaDiTesto 20"/>
          <p:cNvSpPr/>
          <p:nvPr/>
        </p:nvSpPr>
        <p:spPr>
          <a:xfrm>
            <a:off x="7093080" y="1989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 aree B del PS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CasellaDiTesto 21"/>
          <p:cNvSpPr/>
          <p:nvPr/>
        </p:nvSpPr>
        <p:spPr>
          <a:xfrm>
            <a:off x="5093280" y="279720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Sibar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CasellaDiTesto 22"/>
          <p:cNvSpPr/>
          <p:nvPr/>
        </p:nvSpPr>
        <p:spPr>
          <a:xfrm>
            <a:off x="5428800" y="347184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Croto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CasellaDiTesto 23"/>
          <p:cNvSpPr/>
          <p:nvPr/>
        </p:nvSpPr>
        <p:spPr>
          <a:xfrm>
            <a:off x="3820680" y="328788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mezi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CasellaDiTesto 26"/>
          <p:cNvSpPr/>
          <p:nvPr/>
        </p:nvSpPr>
        <p:spPr>
          <a:xfrm>
            <a:off x="3796200" y="370368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Gioia 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09" name="CasellaDiTesto 4"/>
          <p:cNvSpPr/>
          <p:nvPr/>
        </p:nvSpPr>
        <p:spPr>
          <a:xfrm>
            <a:off x="177480" y="38160"/>
            <a:ext cx="354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Territorializzazione PS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Immagine 7" descr=""/>
          <p:cNvPicPr/>
          <p:nvPr/>
        </p:nvPicPr>
        <p:blipFill>
          <a:blip r:embed="rId2"/>
          <a:stretch/>
        </p:blipFill>
        <p:spPr>
          <a:xfrm>
            <a:off x="2268360" y="1108080"/>
            <a:ext cx="3743640" cy="491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13" name="CasellaDiTesto 4"/>
          <p:cNvSpPr/>
          <p:nvPr/>
        </p:nvSpPr>
        <p:spPr>
          <a:xfrm>
            <a:off x="183600" y="38160"/>
            <a:ext cx="236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onti  utilizz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CasellaDiTesto 1"/>
          <p:cNvSpPr/>
          <p:nvPr/>
        </p:nvSpPr>
        <p:spPr>
          <a:xfrm>
            <a:off x="2016720" y="1989000"/>
            <a:ext cx="6648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tilizzazione dei terren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api per allevame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ti ettaro/coltura capi/allevamenti R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STAT, 6° censimento dell’agricoltura italia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STAT, Indagine campionaria (anni 2013 e 2016)denominat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truttura e Produzioni delle Aziende Agricole” (SPA)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PS, Elenco OT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17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050920" y="1413000"/>
          <a:ext cx="4249800" cy="3519360"/>
        </p:xfrm>
        <a:graphic>
          <a:graphicData uri="http://schemas.openxmlformats.org/drawingml/2006/table">
            <a:tbl>
              <a:tblPr/>
              <a:tblGrid>
                <a:gridCol w="792360"/>
                <a:gridCol w="3457440"/>
              </a:tblGrid>
              <a:tr h="1172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bbisogno lavoro (stima in g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ab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411.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oia 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62.5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b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65.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2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t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4.8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mez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53.1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21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619280" y="1700280"/>
          <a:ext cx="6769080" cy="4105080"/>
        </p:xfrm>
        <a:graphic>
          <a:graphicData uri="http://schemas.openxmlformats.org/drawingml/2006/table">
            <a:tbl>
              <a:tblPr/>
              <a:tblGrid>
                <a:gridCol w="804960"/>
                <a:gridCol w="1446120"/>
                <a:gridCol w="1038240"/>
                <a:gridCol w="1312920"/>
                <a:gridCol w="1128600"/>
                <a:gridCol w="1038240"/>
              </a:tblGrid>
              <a:tr h="585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ima fabbisog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i IN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7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mili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trafamili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ab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411.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481.4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940.9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422.3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596.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7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oia 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62.5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0.8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4.7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5.6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1.3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6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b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65.2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2.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4.0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26.4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98.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7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4.8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3.8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3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5.1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1.9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5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mez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53.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2.9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2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5.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4.5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25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7" name="Grafico 5"/>
          <p:cNvGraphicFramePr/>
          <p:nvPr/>
        </p:nvGraphicFramePr>
        <p:xfrm>
          <a:off x="1496880" y="1433520"/>
          <a:ext cx="7446960" cy="4567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8" name="Grafico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96880" y="1433520"/>
                    <a:ext cx="744696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CasellaDiTesto 1"/>
          <p:cNvSpPr/>
          <p:nvPr/>
        </p:nvSpPr>
        <p:spPr>
          <a:xfrm>
            <a:off x="-8640" y="1081080"/>
            <a:ext cx="570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Istat= gg familiari+extrafamiliari; Istat+Inps= gg familiari Istat+lavoratori Inp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31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Ovale 1"/>
          <p:cNvSpPr/>
          <p:nvPr/>
        </p:nvSpPr>
        <p:spPr>
          <a:xfrm>
            <a:off x="206280" y="1197000"/>
            <a:ext cx="2952720" cy="172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ati ISTAT extrafamilia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Ovale 2"/>
          <p:cNvSpPr/>
          <p:nvPr/>
        </p:nvSpPr>
        <p:spPr>
          <a:xfrm>
            <a:off x="179280" y="2133720"/>
            <a:ext cx="2880000" cy="18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ati IN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CasellaDiTesto 5"/>
          <p:cNvSpPr/>
          <p:nvPr/>
        </p:nvSpPr>
        <p:spPr>
          <a:xfrm>
            <a:off x="3433680" y="1844640"/>
            <a:ext cx="553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ti INPS in Calabr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ovrastima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scritti all’INPS senza lavora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ichiarazione di giornate superiori a quelle effettivamente svol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CasellaDiTesto 7"/>
          <p:cNvSpPr/>
          <p:nvPr/>
        </p:nvSpPr>
        <p:spPr>
          <a:xfrm>
            <a:off x="1682640" y="4246560"/>
            <a:ext cx="720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Fonte: "Differenziazioni aziendali, pluriattività, domanda, offerta e "consumo" di politiche nel Mezzogiorno", in </a:t>
            </a:r>
            <a:r>
              <a:rPr b="0" i="1" lang="it-IT" sz="1200" spc="-1" strike="noStrike">
                <a:solidFill>
                  <a:srgbClr val="000000"/>
                </a:solidFill>
                <a:latin typeface="Calibri"/>
              </a:rPr>
              <a:t>Strategie familiari, pluriattività e politiche agrarie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, Il Mulino, Bologna, 1992, pp. 239-314 (con Franco Gaudio and Giuseppe Gaudio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contenuto 1"/>
          <p:cNvSpPr/>
          <p:nvPr/>
        </p:nvSpPr>
        <p:spPr>
          <a:xfrm>
            <a:off x="468360" y="1052640"/>
            <a:ext cx="83008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Il lavoro in agricoltura è frequentemente associato a fenomeni di irregolarità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l’irregolarità in agricoltura non conosce confini geografici in Itali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Competitività basata su illecita riduzione del costo del lavoro (concorrenza sleale basata sull’impiego di manodopera non in regol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Quali strumenti di politica economica per arginarli? Il fabbisogno di lavoro in agricoltura (come quantificarlo e quali le difficoltà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L’esperienza puglies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… 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occorre ripensare ad una migliore metodologia di calcolo: Un nuovo progetto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Da cosa partire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CasellaDiTesto 4"/>
          <p:cNvSpPr/>
          <p:nvPr/>
        </p:nvSpPr>
        <p:spPr>
          <a:xfrm>
            <a:off x="205200" y="38160"/>
            <a:ext cx="733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l fabbisogno di  lavoro nelle aree rurali: summe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Ovale 1"/>
          <p:cNvSpPr/>
          <p:nvPr/>
        </p:nvSpPr>
        <p:spPr>
          <a:xfrm>
            <a:off x="5219640" y="2108160"/>
            <a:ext cx="3313080" cy="384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iversamente per il «rurale»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38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187280" y="1268280"/>
          <a:ext cx="7129800" cy="3600720"/>
        </p:xfrm>
        <a:graphic>
          <a:graphicData uri="http://schemas.openxmlformats.org/drawingml/2006/table">
            <a:tbl>
              <a:tblPr/>
              <a:tblGrid>
                <a:gridCol w="822600"/>
                <a:gridCol w="1042920"/>
                <a:gridCol w="1168200"/>
                <a:gridCol w="1660680"/>
                <a:gridCol w="1420920"/>
                <a:gridCol w="1014480"/>
              </a:tblGrid>
              <a:tr h="1543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re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miliari Ist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xtrafamiliari Ist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pendenti IN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pendenti INPS corret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4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b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.465.2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92.4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34.0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968.4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181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ioia 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062.5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50.8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54.7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51.3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10.8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ot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64.8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93.8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1.3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1.9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5.1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mez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353.1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32.9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2.2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34.5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0.7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42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92360" y="1773360"/>
          <a:ext cx="5832360" cy="2663640"/>
        </p:xfrm>
        <a:graphic>
          <a:graphicData uri="http://schemas.openxmlformats.org/drawingml/2006/table">
            <a:tbl>
              <a:tblPr/>
              <a:tblGrid>
                <a:gridCol w="1020600"/>
                <a:gridCol w="1297080"/>
                <a:gridCol w="1452600"/>
                <a:gridCol w="2062080"/>
              </a:tblGrid>
              <a:tr h="720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 e IN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 e INPS corret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5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b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738.8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4.4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291.8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5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ioia 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56.9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60.3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00.9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6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ot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19.6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29.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85.8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5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mez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97.9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85.6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19.4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46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8" name="Grafico 6"/>
          <p:cNvGraphicFramePr/>
          <p:nvPr/>
        </p:nvGraphicFramePr>
        <p:xfrm>
          <a:off x="1641600" y="1433520"/>
          <a:ext cx="6797520" cy="3917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9" name="Grafico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41600" y="1433520"/>
                    <a:ext cx="6797520" cy="39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979640" y="1773360"/>
          <a:ext cx="6192720" cy="3959280"/>
        </p:xfrm>
        <a:graphic>
          <a:graphicData uri="http://schemas.openxmlformats.org/drawingml/2006/table">
            <a:tbl>
              <a:tblPr/>
              <a:tblGrid>
                <a:gridCol w="1084320"/>
                <a:gridCol w="1376280"/>
                <a:gridCol w="1541520"/>
                <a:gridCol w="2190600"/>
              </a:tblGrid>
              <a:tr h="197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 e IN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 e INPS corret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5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b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8.9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.4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1.5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5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osar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.9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.6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3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ot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.6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.1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.0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5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mez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.6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.4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.6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253" name="Rettangolo 1"/>
          <p:cNvSpPr/>
          <p:nvPr/>
        </p:nvSpPr>
        <p:spPr>
          <a:xfrm>
            <a:off x="186480" y="171360"/>
            <a:ext cx="39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Fabbisogno di lavoro (numero lavorator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ttangolo 1"/>
          <p:cNvSpPr/>
          <p:nvPr/>
        </p:nvSpPr>
        <p:spPr>
          <a:xfrm>
            <a:off x="193680" y="171360"/>
            <a:ext cx="44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Fabbisogno di lavoro (approfondimenti futur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CasellaDiTesto 3"/>
          <p:cNvSpPr/>
          <p:nvPr/>
        </p:nvSpPr>
        <p:spPr>
          <a:xfrm>
            <a:off x="1250640" y="116532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ti R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ttangolo 4"/>
          <p:cNvSpPr/>
          <p:nvPr/>
        </p:nvSpPr>
        <p:spPr>
          <a:xfrm>
            <a:off x="1649520" y="1706400"/>
            <a:ext cx="64101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 Rete di Informazione Contabile Agricola (R.I.C.A.) è una indagine campionaria annuale istituita dalla Commissione Economica Europea nel 1965, con il 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Calibri"/>
              </a:rPr>
              <a:t>Regolamento CEE 79/56 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e aggiornata con il Reg. CE 1217/2009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 RICA italiana si basa su un campione ragionato di circa 11.000 aziende, strutturato in modo da rappresentare le diverse tipologie produttive e dimensionali presenti sul territorio nazionale. Le aziende agricole che partecipano alla RICA (Campo di osservazione RICA) vengono selezionate sulla base di un piano di campionamento redatto per singola regione e provincia autonoma. Il campione RICA consente una copertura media a livello nazionale del 95% della SAU, del 97% del valore della Produzione Standard, del 92% delle Unità di Lavoro, e del 91% delle Unità di Bestia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Base dat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Utilizzazione terren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vor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Aggiornata annualmen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CasellaDiTesto 1"/>
          <p:cNvSpPr/>
          <p:nvPr/>
        </p:nvSpPr>
        <p:spPr>
          <a:xfrm>
            <a:off x="2484360" y="220500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Grazie per l’attenzion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CasellaDiTesto 2"/>
          <p:cNvSpPr/>
          <p:nvPr/>
        </p:nvSpPr>
        <p:spPr>
          <a:xfrm>
            <a:off x="3564000" y="414972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franco.gaudio@crea.gov.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grazia.valentino@crea.gov.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egnaposto contenuto 1"/>
          <p:cNvSpPr/>
          <p:nvPr/>
        </p:nvSpPr>
        <p:spPr>
          <a:xfrm>
            <a:off x="468360" y="1052640"/>
            <a:ext cx="83008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Le imprese agricole per essere competitive, soprattutto nel libero mercato e per prodotti indifferenziati hanno bisogno di contenere i propri costi di produ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Una delle voci  di costo più incisive nel bilancio agricolo soprattutto nei comparti molto </a:t>
            </a:r>
            <a:r>
              <a:rPr b="0" i="1" lang="it-IT" sz="2000" spc="-1" strike="noStrike">
                <a:solidFill>
                  <a:srgbClr val="000000"/>
                </a:solidFill>
                <a:latin typeface="Trebuchet MS"/>
              </a:rPr>
              <a:t>labor intensive 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è il lavoro. Quindi facilmente si decide di operare su di essa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CasellaDiTesto 4"/>
          <p:cNvSpPr/>
          <p:nvPr/>
        </p:nvSpPr>
        <p:spPr>
          <a:xfrm>
            <a:off x="184680" y="38160"/>
            <a:ext cx="48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l lavoro irregolare in agricoltu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Freccia in su 4"/>
          <p:cNvSpPr/>
          <p:nvPr/>
        </p:nvSpPr>
        <p:spPr>
          <a:xfrm rot="10800000">
            <a:off x="1988640" y="3083040"/>
            <a:ext cx="576360" cy="4204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Elaborazione 7"/>
          <p:cNvSpPr/>
          <p:nvPr/>
        </p:nvSpPr>
        <p:spPr>
          <a:xfrm>
            <a:off x="971640" y="3643200"/>
            <a:ext cx="2952720" cy="647640"/>
          </a:xfrm>
          <a:prstGeom prst="flowChartProcess">
            <a:avLst/>
          </a:prstGeom>
          <a:gradFill rotWithShape="0">
            <a:gsLst>
              <a:gs pos="0">
                <a:srgbClr val="bebef6"/>
              </a:gs>
              <a:gs pos="100000">
                <a:srgbClr val="eaeafb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ducendo il pagamento dei contribu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Elaborazione 8"/>
          <p:cNvSpPr/>
          <p:nvPr/>
        </p:nvSpPr>
        <p:spPr>
          <a:xfrm>
            <a:off x="971640" y="4508640"/>
            <a:ext cx="2952720" cy="1224000"/>
          </a:xfrm>
          <a:prstGeom prst="flowChartProcess">
            <a:avLst/>
          </a:prstGeom>
          <a:gradFill rotWithShape="0">
            <a:gsLst>
              <a:gs pos="0">
                <a:srgbClr val="76768d"/>
              </a:gs>
              <a:gs pos="100000">
                <a:srgbClr val="cbcbf1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rrispondendo  retribuzioni inferiori a quelle previste con regolare assunzio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Diagramma 16" descr=""/>
          <p:cNvPicPr/>
          <p:nvPr/>
        </p:nvPicPr>
        <p:blipFill>
          <a:blip r:embed="rId1"/>
          <a:stretch/>
        </p:blipFill>
        <p:spPr>
          <a:xfrm>
            <a:off x="4730760" y="3597120"/>
            <a:ext cx="3998880" cy="2310120"/>
          </a:xfrm>
          <a:prstGeom prst="rect">
            <a:avLst/>
          </a:prstGeom>
          <a:ln w="0">
            <a:noFill/>
          </a:ln>
        </p:spPr>
      </p:pic>
      <p:sp>
        <p:nvSpPr>
          <p:cNvPr id="131" name="Parentesi graffa chiusa 17"/>
          <p:cNvSpPr/>
          <p:nvPr/>
        </p:nvSpPr>
        <p:spPr>
          <a:xfrm>
            <a:off x="4067280" y="3645000"/>
            <a:ext cx="433440" cy="2087640"/>
          </a:xfrm>
          <a:custGeom>
            <a:avLst/>
            <a:gdLst>
              <a:gd name="textAreaLeft" fmla="*/ 0 w 433440"/>
              <a:gd name="textAreaRight" fmla="*/ 156600 w 433440"/>
              <a:gd name="textAreaTop" fmla="*/ 0 h 2087640"/>
              <a:gd name="textAreaBottom" fmla="*/ 20880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2" name="Connettore 2 3"/>
          <p:cNvCxnSpPr/>
          <p:nvPr/>
        </p:nvCxnSpPr>
        <p:spPr>
          <a:xfrm flipV="1">
            <a:off x="4511520" y="4382640"/>
            <a:ext cx="183600" cy="306720"/>
          </a:xfrm>
          <a:prstGeom prst="straightConnector1">
            <a:avLst/>
          </a:prstGeom>
          <a:ln w="93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33" name="Connettore 2 11"/>
          <p:cNvCxnSpPr/>
          <p:nvPr/>
        </p:nvCxnSpPr>
        <p:spPr>
          <a:xfrm>
            <a:off x="4511520" y="4714920"/>
            <a:ext cx="183600" cy="227520"/>
          </a:xfrm>
          <a:prstGeom prst="straightConnector1">
            <a:avLst/>
          </a:prstGeom>
          <a:ln w="9360">
            <a:solidFill>
              <a:srgbClr val="ffc000"/>
            </a:solidFill>
            <a:miter/>
            <a:tailEnd len="med" type="arrow" w="med"/>
          </a:ln>
        </p:spPr>
      </p:cxn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contenuto 2"/>
          <p:cNvSpPr/>
          <p:nvPr/>
        </p:nvSpPr>
        <p:spPr>
          <a:xfrm>
            <a:off x="457200" y="1600200"/>
            <a:ext cx="822960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Entrambi i problemi investono la collettività, impongono pertanto una soluzione di politica economica. Solitamente ci sono due possibilità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000"/>
                </a:solidFill>
                <a:latin typeface="Trebuchet MS"/>
              </a:rPr>
              <a:t>Strumenti di disincentivazione attraverso un sistema di controlli e ammende per i trasgressor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b6bc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b6bcf"/>
                </a:solidFill>
                <a:latin typeface="Trebuchet MS"/>
              </a:rPr>
              <a:t>Strumenti che incentivino  nelle imprese l’adozione di comportamenti virtuosi attraverso un sistema di vantaggi e benefici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b6b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CasellaDiTesto 4"/>
          <p:cNvSpPr/>
          <p:nvPr/>
        </p:nvSpPr>
        <p:spPr>
          <a:xfrm>
            <a:off x="207000" y="38160"/>
            <a:ext cx="573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Quali strumenti di politica economic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contenuto 2"/>
          <p:cNvSpPr/>
          <p:nvPr/>
        </p:nvSpPr>
        <p:spPr>
          <a:xfrm>
            <a:off x="457200" y="1341360"/>
            <a:ext cx="82296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In Puglia, con la L.R. 28/2006, si è deciso di creare questo sistema di vantaggi orientando il flusso delle risorse pubbliche verso le aziende che garantiscono un corretto impiego di manodopera (</a:t>
            </a:r>
            <a:r>
              <a:rPr b="1" lang="it-IT" sz="2200" spc="-1" strike="noStrike">
                <a:solidFill>
                  <a:srgbClr val="000000"/>
                </a:solidFill>
                <a:latin typeface="Trebuchet MS"/>
              </a:rPr>
              <a:t>parametro di normalità tecnica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CasellaDiTesto 4"/>
          <p:cNvSpPr/>
          <p:nvPr/>
        </p:nvSpPr>
        <p:spPr>
          <a:xfrm>
            <a:off x="169560" y="38160"/>
            <a:ext cx="32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Ovale 2"/>
          <p:cNvSpPr/>
          <p:nvPr/>
        </p:nvSpPr>
        <p:spPr>
          <a:xfrm>
            <a:off x="1440000" y="2781360"/>
            <a:ext cx="6264000" cy="1008000"/>
          </a:xfrm>
          <a:prstGeom prst="ellipse">
            <a:avLst/>
          </a:prstGeom>
          <a:solidFill>
            <a:srgbClr val="64ea8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Come individuare queste aziende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Ovale 4"/>
          <p:cNvSpPr/>
          <p:nvPr/>
        </p:nvSpPr>
        <p:spPr>
          <a:xfrm>
            <a:off x="549360" y="4292640"/>
            <a:ext cx="3600360" cy="1728720"/>
          </a:xfrm>
          <a:prstGeom prst="ellipse">
            <a:avLst/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ccorre uno Strumento che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ermetta di far emergere le realtà irregola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1" name="Rettangolo arrotondato 5"/>
          <p:cNvGrpSpPr/>
          <p:nvPr/>
        </p:nvGrpSpPr>
        <p:grpSpPr>
          <a:xfrm>
            <a:off x="5578560" y="5145120"/>
            <a:ext cx="3120840" cy="817560"/>
            <a:chOff x="5578560" y="5145120"/>
            <a:chExt cx="3120840" cy="817560"/>
          </a:xfrm>
        </p:grpSpPr>
        <p:pic>
          <p:nvPicPr>
            <p:cNvPr id="142" name="Rettangolo arrotondato 5" descr=""/>
            <p:cNvPicPr/>
            <p:nvPr/>
          </p:nvPicPr>
          <p:blipFill>
            <a:blip r:embed="rId1"/>
            <a:stretch/>
          </p:blipFill>
          <p:spPr>
            <a:xfrm>
              <a:off x="5578560" y="5145120"/>
              <a:ext cx="312084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629320" y="5195880"/>
              <a:ext cx="301932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Permette la stima del fabbisogno di lavoro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4" name="Freccia in giù 6"/>
          <p:cNvSpPr/>
          <p:nvPr/>
        </p:nvSpPr>
        <p:spPr>
          <a:xfrm>
            <a:off x="2124000" y="3809880"/>
            <a:ext cx="74628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Freccia in giù 7"/>
          <p:cNvSpPr/>
          <p:nvPr/>
        </p:nvSpPr>
        <p:spPr>
          <a:xfrm rot="15198600">
            <a:off x="4708440" y="4052880"/>
            <a:ext cx="363600" cy="124632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ttangolo 9"/>
          <p:cNvSpPr/>
          <p:nvPr/>
        </p:nvSpPr>
        <p:spPr>
          <a:xfrm>
            <a:off x="5789880" y="423216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INDICE DI CONGRUIT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Freccia in giù 6"/>
          <p:cNvSpPr/>
          <p:nvPr/>
        </p:nvSpPr>
        <p:spPr>
          <a:xfrm>
            <a:off x="6948360" y="4602240"/>
            <a:ext cx="360360" cy="426960"/>
          </a:xfrm>
          <a:prstGeom prst="down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contenuto 2"/>
          <p:cNvSpPr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L’indice di congruità è un numero di giornate di lavoro che per ettaro e capo di bestiame/ coltura esprime il fabbisogno di lavoro (stimato sulla base di alcuni dati RICA e sulla ordinarietà di coltivazion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Questi numeri presentati in una tabella per tutte le colture/capi di allevamento diventano il riferimento per valutare le dichiarazioni delle imprese relative ai loro costi del lavo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CasellaDiTesto 4"/>
          <p:cNvSpPr/>
          <p:nvPr/>
        </p:nvSpPr>
        <p:spPr>
          <a:xfrm>
            <a:off x="183240" y="38160"/>
            <a:ext cx="76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stima dei fabbisogni di lavo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egnaposto contenuto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Le tabelle vengono adottate anche per verificare l’idoneità ai fondi della PAC 1 e 2 pilastro. Pertanto in tutti i bandi che danno accesso alla presentazione di istanze per ricevere finanziamenti pubblici vengono fatte le verifiche per evidenziare l’eventuale distacco del dichiarato da quanto stimabile sulla base degli ind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CasellaDiTesto 4"/>
          <p:cNvSpPr/>
          <p:nvPr/>
        </p:nvSpPr>
        <p:spPr>
          <a:xfrm>
            <a:off x="183240" y="38160"/>
            <a:ext cx="76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stima dei fabbisogni di lavo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CasellaDiTesto 4"/>
          <p:cNvSpPr/>
          <p:nvPr/>
        </p:nvSpPr>
        <p:spPr>
          <a:xfrm>
            <a:off x="188640" y="38160"/>
            <a:ext cx="747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i limiti delle tabelle adot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Segnaposto contenuto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Però spesso le discordanze riscontrate non sono degli illeciti. Occorre quindi avere maggiori informazion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Si richiede un’integrazione di informazioni, orientate a giustificare razionalmente l’eventuale scollamento con la stima fatta con gli indici di congruit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Condizioni non concorrenziali nel mercato di sboc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Utilizzo di personale ester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Produttività particolarmente elevata dovuta ad investiment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Calamità naturali ed eventi accidental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CasellaDiTesto 4"/>
          <p:cNvSpPr/>
          <p:nvPr/>
        </p:nvSpPr>
        <p:spPr>
          <a:xfrm>
            <a:off x="181800" y="38160"/>
            <a:ext cx="61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un nuovo proget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Immagine 6" descr=""/>
          <p:cNvPicPr/>
          <p:nvPr/>
        </p:nvPicPr>
        <p:blipFill>
          <a:blip r:embed="rId1"/>
          <a:stretch/>
        </p:blipFill>
        <p:spPr>
          <a:xfrm>
            <a:off x="1096920" y="1960560"/>
            <a:ext cx="2752920" cy="1666800"/>
          </a:xfrm>
          <a:prstGeom prst="rect">
            <a:avLst/>
          </a:prstGeom>
          <a:ln w="0">
            <a:noFill/>
          </a:ln>
        </p:spPr>
      </p:pic>
      <p:pic>
        <p:nvPicPr>
          <p:cNvPr id="160" name="Immagine 8" descr=""/>
          <p:cNvPicPr/>
          <p:nvPr/>
        </p:nvPicPr>
        <p:blipFill>
          <a:blip r:embed="rId2"/>
          <a:stretch/>
        </p:blipFill>
        <p:spPr>
          <a:xfrm>
            <a:off x="1096920" y="4267080"/>
            <a:ext cx="2752920" cy="1552680"/>
          </a:xfrm>
          <a:prstGeom prst="rect">
            <a:avLst/>
          </a:prstGeom>
          <a:ln w="0">
            <a:noFill/>
          </a:ln>
        </p:spPr>
      </p:pic>
      <p:sp>
        <p:nvSpPr>
          <p:cNvPr id="161" name="Rettangolo arrotondato 4"/>
          <p:cNvSpPr/>
          <p:nvPr/>
        </p:nvSpPr>
        <p:spPr>
          <a:xfrm>
            <a:off x="4361040" y="1960560"/>
            <a:ext cx="4387680" cy="1252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Un nuovo strumento metodologico (flessibile, aggiornabile e dalla chiara e comprensibile strutturazione) per una corretta valutazione del fabbisogno di lavoro nelle imprese agrico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ttangolo arrotondato 5"/>
          <p:cNvSpPr/>
          <p:nvPr/>
        </p:nvSpPr>
        <p:spPr>
          <a:xfrm>
            <a:off x="4484520" y="4568760"/>
            <a:ext cx="4264200" cy="731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Nuovi Indicatori di congruit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CasellaDiTesto 6"/>
          <p:cNvSpPr/>
          <p:nvPr/>
        </p:nvSpPr>
        <p:spPr>
          <a:xfrm>
            <a:off x="611280" y="119700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Con la programmazione 2014/2020 la Regione Puglia si è chiesta cosa potesse migliorare l’attuazione del PSR ai fini della stima dei fabbisogni di lavoro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ttangolo arrotondato 7"/>
          <p:cNvSpPr/>
          <p:nvPr/>
        </p:nvSpPr>
        <p:spPr>
          <a:xfrm>
            <a:off x="4149720" y="3355920"/>
            <a:ext cx="2405160" cy="9111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Garantisca obiettivi di efficienza aziendale tenendo conto del contesto di mercat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ttangolo arrotondato 8"/>
          <p:cNvSpPr/>
          <p:nvPr/>
        </p:nvSpPr>
        <p:spPr>
          <a:xfrm>
            <a:off x="6854760" y="3355920"/>
            <a:ext cx="2268720" cy="9111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Tenga conto dei principi a Salvaguardia e tutela dell’occupazio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08:46:11Z</dcterms:created>
  <dc:creator>Tatiana Castellotti</dc:creator>
  <dc:description/>
  <dc:language>en-US</dc:language>
  <cp:lastModifiedBy>Valued Acer Customer</cp:lastModifiedBy>
  <dcterms:modified xsi:type="dcterms:W3CDTF">2017-12-10T22:56:06Z</dcterms:modified>
  <cp:revision>356</cp:revision>
  <dc:subject/>
  <dc:title>Quali politiche e quali governances per i piccoli comuni</dc:title>
</cp:coreProperties>
</file>